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94A9C-0755-439C-A82B-01A9A58F5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4D52-714B-4B9C-924E-A9C067021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B33FB-1E9A-437C-8111-2448DE069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0AD5-10DE-4766-AB96-2857D25CC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7FB6-B062-4A12-8BE9-31121761EC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9867B-2BBA-410E-B169-FB3E4D6032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239C2-2564-4084-8B0C-38DF1869B7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71EC-6CCD-4340-AE82-26C1AD8E8E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1FE0D-DD1A-48A7-85AA-F2E97EC832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6FD3F-2F4B-42E5-ACA2-9B6C546A34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77682-E178-4DE9-BBF8-33062E98B8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E491-709C-48AD-9FEA-1DB988200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CE791-1917-41BF-9F94-ADF99E92AE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3FF0C-157B-4C77-A765-0984ED1DC0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E75F8-C96C-425B-B85D-7BDC1443C6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2501-E483-4EE4-8C3E-2A9E15F6AB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1B97E-56C2-444C-B8DF-F5E36D417E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82B2-C04D-406A-8D61-0912ADFAC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048B-644A-4BD4-A90F-A06AF4D9F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7826-D6FC-4133-B73D-2E7EB1D9F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AFEF-CEFD-40FD-9F14-673085A37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B7D7-84E6-4115-8E79-8195DB58A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0FA4-26FA-4F9C-9E3A-B5DB7FFD3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A4413-4D99-4D8C-A2B8-E6C27D438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399960"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C3AD-4E71-42A2-B423-9BDC63B91D16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6"/>
          <p:cNvGrpSpPr/>
          <p:nvPr/>
        </p:nvGrpSpPr>
        <p:grpSpPr>
          <a:xfrm>
            <a:off x="0" y="1066680"/>
            <a:ext cx="2867040" cy="3156120"/>
            <a:chOff x="0" y="1066680"/>
            <a:chExt cx="2867040" cy="3156120"/>
          </a:xfrm>
        </p:grpSpPr>
        <p:sp>
          <p:nvSpPr>
            <p:cNvPr id="48" name="Rectangle 7"/>
            <p:cNvSpPr/>
            <p:nvPr/>
          </p:nvSpPr>
          <p:spPr>
            <a:xfrm>
              <a:off x="573120" y="3582000"/>
              <a:ext cx="576000" cy="640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1716120" y="1690200"/>
              <a:ext cx="574560" cy="6426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2281320" y="1066680"/>
              <a:ext cx="585720" cy="634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1141560" y="3582000"/>
              <a:ext cx="583920" cy="6408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2281320" y="1690200"/>
              <a:ext cx="585720" cy="6426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1141560" y="2323440"/>
              <a:ext cx="583920" cy="6328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0" y="2323440"/>
              <a:ext cx="582480" cy="632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1716120" y="2323440"/>
              <a:ext cx="574560" cy="632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573120" y="2946960"/>
              <a:ext cx="576000" cy="644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1141560" y="2946960"/>
              <a:ext cx="583920" cy="6440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" name="Picture 17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ldNum" idx="2"/>
          </p:nvPr>
        </p:nvSpPr>
        <p:spPr>
          <a:xfrm>
            <a:off x="8378640" y="6397200"/>
            <a:ext cx="306360" cy="30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F41B-B563-4693-88A1-F03E8A3C429C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Calibri"/>
              </a:rPr>
              <a:t>Feedbacks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ibeiro de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ão José dos Camp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opulations Growth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tock: population(t) = population(t – dt) + growth x d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itial stocks: population = 60, 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t =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t = 1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un time = 7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flow: growth = population x 50%, population x 90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eedback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421000"/>
            <a:ext cx="8229600" cy="382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edbacks have limit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opulation Growth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Stock: population(t) = population(t – dt) + growth x d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itial stocks: population = 60, 2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t =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t = 1 ye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Run time = 7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low: growth = population x 50%, population x 9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What would happen if growth rates decrease 20% each year and we simulate until time 30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9800" y="40428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Last lectur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" name="Line 2"/>
          <p:cNvSpPr/>
          <p:nvPr/>
        </p:nvSpPr>
        <p:spPr>
          <a:xfrm>
            <a:off x="2587680" y="281448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5384880" y="2822400"/>
            <a:ext cx="98568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401840" y="2475000"/>
            <a:ext cx="12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459480" y="25322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t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Group 6"/>
          <p:cNvGrpSpPr/>
          <p:nvPr/>
        </p:nvGrpSpPr>
        <p:grpSpPr>
          <a:xfrm>
            <a:off x="3573360" y="2347920"/>
            <a:ext cx="1800360" cy="936720"/>
            <a:chOff x="3573360" y="2347920"/>
            <a:chExt cx="1800360" cy="936720"/>
          </a:xfrm>
        </p:grpSpPr>
        <p:sp>
          <p:nvSpPr>
            <p:cNvPr id="104" name="Rectangle 7"/>
            <p:cNvSpPr/>
            <p:nvPr/>
          </p:nvSpPr>
          <p:spPr>
            <a:xfrm>
              <a:off x="3573360" y="2347920"/>
              <a:ext cx="1800360" cy="936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8"/>
            <p:cNvSpPr/>
            <p:nvPr/>
          </p:nvSpPr>
          <p:spPr>
            <a:xfrm>
              <a:off x="4026240" y="2347920"/>
              <a:ext cx="89388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Stock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4220640"/>
            <a:ext cx="85345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Two ways to increase stock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tocks act as delays or buffer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tocks allow inflows and outflows to be decoupl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800" y="40428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eedback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83920"/>
            <a:ext cx="853452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edback is how the system affect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2587680" y="3244680"/>
            <a:ext cx="98568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5384880" y="32576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401840" y="2908440"/>
            <a:ext cx="12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459480" y="29638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t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7"/>
          <p:cNvSpPr/>
          <p:nvPr/>
        </p:nvSpPr>
        <p:spPr>
          <a:xfrm flipH="1">
            <a:off x="3849840" y="3249720"/>
            <a:ext cx="1382400" cy="11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539" y="0"/>
                </a:moveTo>
                <a:cubicBezTo>
                  <a:pt x="376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257"/>
                  <a:pt x="21600" y="8915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8"/>
          <p:cNvGrpSpPr/>
          <p:nvPr/>
        </p:nvGrpSpPr>
        <p:grpSpPr>
          <a:xfrm>
            <a:off x="3573360" y="2779560"/>
            <a:ext cx="1800360" cy="936720"/>
            <a:chOff x="3573360" y="2779560"/>
            <a:chExt cx="1800360" cy="936720"/>
          </a:xfrm>
        </p:grpSpPr>
        <p:sp>
          <p:nvSpPr>
            <p:cNvPr id="115" name="Rectangle 9"/>
            <p:cNvSpPr/>
            <p:nvPr/>
          </p:nvSpPr>
          <p:spPr>
            <a:xfrm>
              <a:off x="3573360" y="2779560"/>
              <a:ext cx="1800360" cy="936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3893040" y="2779560"/>
              <a:ext cx="11606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Rectangle 11"/>
          <p:cNvSpPr/>
          <p:nvPr/>
        </p:nvSpPr>
        <p:spPr>
          <a:xfrm>
            <a:off x="3849840" y="43322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opulation growth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5384880" y="347328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546200" y="3124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Bir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372360" y="3179880"/>
            <a:ext cx="19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5"/>
          <p:cNvSpPr/>
          <p:nvPr/>
        </p:nvSpPr>
        <p:spPr>
          <a:xfrm flipH="1">
            <a:off x="2745720" y="3465360"/>
            <a:ext cx="1382760" cy="113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539" y="0"/>
                </a:moveTo>
                <a:cubicBezTo>
                  <a:pt x="376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257"/>
                  <a:pt x="21600" y="8915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700360" y="4724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rt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2587680" y="346068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003640" y="170028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ort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9"/>
          <p:cNvSpPr/>
          <p:nvPr/>
        </p:nvSpPr>
        <p:spPr>
          <a:xfrm flipH="1" rot="10800000">
            <a:off x="4761360" y="2400480"/>
            <a:ext cx="1538280" cy="106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958" y="0"/>
                </a:moveTo>
                <a:cubicBezTo>
                  <a:pt x="447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553"/>
                  <a:pt x="21600" y="9506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10"/>
          <p:cNvGrpSpPr/>
          <p:nvPr/>
        </p:nvGrpSpPr>
        <p:grpSpPr>
          <a:xfrm>
            <a:off x="3571920" y="2995560"/>
            <a:ext cx="1801800" cy="938160"/>
            <a:chOff x="3571920" y="2995560"/>
            <a:chExt cx="1801800" cy="938160"/>
          </a:xfrm>
        </p:grpSpPr>
        <p:sp>
          <p:nvSpPr>
            <p:cNvPr id="128" name="Rectangle 11"/>
            <p:cNvSpPr/>
            <p:nvPr/>
          </p:nvSpPr>
          <p:spPr>
            <a:xfrm>
              <a:off x="3571920" y="2995560"/>
              <a:ext cx="1801800" cy="938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3621240" y="2995560"/>
              <a:ext cx="1703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Populati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Albedo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1" name="Picture 2" descr="image.png"/>
          <p:cNvPicPr/>
          <p:nvPr/>
        </p:nvPicPr>
        <p:blipFill>
          <a:blip r:embed="rId1"/>
          <a:srcRect l="0" t="0" r="0" b="11862"/>
          <a:stretch/>
        </p:blipFill>
        <p:spPr>
          <a:xfrm>
            <a:off x="2776680" y="619200"/>
            <a:ext cx="4249440" cy="4124160"/>
          </a:xfrm>
          <a:prstGeom prst="rect">
            <a:avLst/>
          </a:prstGeom>
          <a:ln w="0">
            <a:noFill/>
          </a:ln>
        </p:spPr>
      </p:pic>
      <p:sp>
        <p:nvSpPr>
          <p:cNvPr id="132" name="Line 3"/>
          <p:cNvSpPr/>
          <p:nvPr/>
        </p:nvSpPr>
        <p:spPr>
          <a:xfrm>
            <a:off x="3021120" y="589752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5818320" y="579276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692360" y="55609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966000" y="5505480"/>
            <a:ext cx="20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7"/>
          <p:cNvSpPr/>
          <p:nvPr/>
        </p:nvSpPr>
        <p:spPr>
          <a:xfrm flipH="1" rot="10800000">
            <a:off x="5151960" y="4836600"/>
            <a:ext cx="1538280" cy="106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958" y="0"/>
                </a:moveTo>
                <a:cubicBezTo>
                  <a:pt x="447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553"/>
                  <a:pt x="21600" y="9506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Group 8"/>
          <p:cNvGrpSpPr/>
          <p:nvPr/>
        </p:nvGrpSpPr>
        <p:grpSpPr>
          <a:xfrm>
            <a:off x="4006800" y="5432400"/>
            <a:ext cx="1800360" cy="938160"/>
            <a:chOff x="4006800" y="5432400"/>
            <a:chExt cx="1800360" cy="938160"/>
          </a:xfrm>
        </p:grpSpPr>
        <p:sp>
          <p:nvSpPr>
            <p:cNvPr id="138" name="Rectangle 9"/>
            <p:cNvSpPr/>
            <p:nvPr/>
          </p:nvSpPr>
          <p:spPr>
            <a:xfrm>
              <a:off x="4006800" y="5432400"/>
              <a:ext cx="1800360" cy="938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49760" y="5432400"/>
              <a:ext cx="5144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Ic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Line 11"/>
          <p:cNvSpPr/>
          <p:nvPr/>
        </p:nvSpPr>
        <p:spPr>
          <a:xfrm>
            <a:off x="5794200" y="6191280"/>
            <a:ext cx="98604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6942240" y="5905440"/>
            <a:ext cx="207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flected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ater in the dam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143" name="Group 2"/>
          <p:cNvGrpSpPr/>
          <p:nvPr/>
        </p:nvGrpSpPr>
        <p:grpSpPr>
          <a:xfrm>
            <a:off x="2998800" y="1627200"/>
            <a:ext cx="1800360" cy="938160"/>
            <a:chOff x="2998800" y="1627200"/>
            <a:chExt cx="1800360" cy="938160"/>
          </a:xfrm>
        </p:grpSpPr>
        <p:sp>
          <p:nvSpPr>
            <p:cNvPr id="144" name="Rectangle 3"/>
            <p:cNvSpPr/>
            <p:nvPr/>
          </p:nvSpPr>
          <p:spPr>
            <a:xfrm>
              <a:off x="2998800" y="1627200"/>
              <a:ext cx="1800360" cy="938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4"/>
            <p:cNvSpPr/>
            <p:nvPr/>
          </p:nvSpPr>
          <p:spPr>
            <a:xfrm>
              <a:off x="3508560" y="1627200"/>
              <a:ext cx="7808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Dam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Line 5"/>
          <p:cNvSpPr/>
          <p:nvPr/>
        </p:nvSpPr>
        <p:spPr>
          <a:xfrm>
            <a:off x="2013120" y="209232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3565440" y="3571920"/>
            <a:ext cx="1800360" cy="936720"/>
            <a:chOff x="3565440" y="3571920"/>
            <a:chExt cx="1800360" cy="936720"/>
          </a:xfrm>
        </p:grpSpPr>
        <p:sp>
          <p:nvSpPr>
            <p:cNvPr id="148" name="Rectangle 7"/>
            <p:cNvSpPr/>
            <p:nvPr/>
          </p:nvSpPr>
          <p:spPr>
            <a:xfrm>
              <a:off x="3565440" y="3571920"/>
              <a:ext cx="1800360" cy="936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4136760" y="3571920"/>
              <a:ext cx="657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Cit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Line 9"/>
          <p:cNvSpPr/>
          <p:nvPr/>
        </p:nvSpPr>
        <p:spPr>
          <a:xfrm>
            <a:off x="4809960" y="2133720"/>
            <a:ext cx="986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10"/>
          <p:cNvSpPr/>
          <p:nvPr/>
        </p:nvSpPr>
        <p:spPr>
          <a:xfrm flipH="1">
            <a:off x="4465080" y="4041720"/>
            <a:ext cx="1438200" cy="12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91" y="0"/>
                </a:moveTo>
                <a:cubicBezTo>
                  <a:pt x="4045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4900"/>
                  <a:pt x="21600" y="82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11"/>
          <p:cNvSpPr/>
          <p:nvPr/>
        </p:nvSpPr>
        <p:spPr>
          <a:xfrm flipV="1">
            <a:off x="4465800" y="2349360"/>
            <a:ext cx="944280" cy="122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5640" y="1755360"/>
            <a:ext cx="10098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6012000" y="4260960"/>
            <a:ext cx="13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5886360" y="177336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Generate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5221440" y="2781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nsum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539640" y="573264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The information delivered by a feedback can only affect future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ype 1: Balancing feedback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(Also negative, self-correcting, discrepancy-reducing, regenerat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quilibrating or goal-seeking struc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image.pdf"/>
          <p:cNvPicPr/>
          <p:nvPr/>
        </p:nvPicPr>
        <p:blipFill>
          <a:blip r:embed="rId1"/>
          <a:stretch/>
        </p:blipFill>
        <p:spPr>
          <a:xfrm>
            <a:off x="1806480" y="2997360"/>
            <a:ext cx="564516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Coffee Cups Cooling or Warm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Stock: coffee temperature(t) = coffee temperature(t – dt) – flow x d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itial stock: coffee temperature = 8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, 2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, 5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t = minu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t = 1 minu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Run time = 20 minu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Flow: discrepancy x 1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iscrepancy: coffee temperature – room tempera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Room temperature: 2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ype 2: Reinforcing feedback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(Also positive, self-reinforcing, discrepancy-enhancing, degenerat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lf-enhancing behavior that leads to growth or even collap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image.pdf"/>
          <p:cNvPicPr/>
          <p:nvPr/>
        </p:nvPicPr>
        <p:blipFill>
          <a:blip r:embed="rId1"/>
          <a:stretch/>
        </p:blipFill>
        <p:spPr>
          <a:xfrm>
            <a:off x="2195640" y="3357720"/>
            <a:ext cx="54054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dro R. Andrade</dc:creator>
  <dc:description/>
  <dc:language>en-US</dc:language>
  <cp:lastModifiedBy>pedrorib81 pedrorib81</cp:lastModifiedBy>
  <dcterms:modified xsi:type="dcterms:W3CDTF">2019-07-10T19:52:37Z</dcterms:modified>
  <cp:revision>3</cp:revision>
  <dc:subject/>
  <dc:title>Feedbacks</dc:title>
</cp:coreProperties>
</file>